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13.jpeg" ContentType="image/jpeg"/>
  <Override PartName="/ppt/media/image3.wmf" ContentType="image/x-wmf"/>
  <Override PartName="/ppt/media/image26.wmf" ContentType="image/x-wmf"/>
  <Override PartName="/ppt/media/image36.jpeg" ContentType="image/jpeg"/>
  <Override PartName="/ppt/media/image2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0D67-C4A2-4833-9F3B-B22E8B03AA6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A7E-EB7D-4F25-ACAF-00B23C326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A95-544D-4C9B-B072-5C4248E6AA1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FAE4-3B88-49D3-9C4C-9046226161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ворческий проек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катег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2.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835A-85D8-4BCE-A9A4-99CF0DB21C6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7F4B-C346-411C-B875-249531C463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ктуальность выбр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ель и содержание поставленной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нируемый результ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жпредметные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орудование и материа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ить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351E-8275-4765-9DCC-36F2B7E8389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D8CE-2FC3-4E60-9537-F9FBDC4719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идей и 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1828-37BE-4544-BB84-CB17243C6BD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221B-AAC8-4906-A358-83EF92099A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лагаемая методика и техника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ткий обзор литера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тория предмета и техники выпол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следование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4206-9FAE-42CE-BB01-ABA0BF5217F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50A-087D-4FDD-896A-00865F7205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FAF6-96C3-4216-8844-B99F5EE41A7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818A-6187-4C56-B741-05B538341A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рынка сб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7548-FE53-47B8-85B2-E4A345DA946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2C4C-0E93-436E-A924-D05DE71A57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031E-41DE-4CBB-8BAC-0AFAA1A64D7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C319-AC99-4481-8713-D846D92B38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оценк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чи, которые предстоит реш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1B82-0A0A-425F-B4E9-9C88E11978E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DB19-FFC1-46AA-A633-69CF755735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1D9D-9FA9-447A-979B-A098474F8C3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0D4F-545D-490D-85F4-B5064A9498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ое соверше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тетические достоин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общественным потребност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бство эксплуа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7959-461E-4339-B020-DB5DB349A20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EBA8-BB5D-493C-815B-09A4AB01EB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ая раб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енная по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ководством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A734-62D7-4B00-8033-D3CD0913393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3F8C-29A3-4051-A0BA-6377DBD3B6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ка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A0FD-C53F-4912-9B20-6B97AFDB168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1D7C-EF34-48CC-A718-6E19AFFF7D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2009-2010 уч.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удьте здоро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узей пуговицы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шивка (крест, гладь, изони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язание (крючком, спиц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летение (макраме, ло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уп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зайн (помещения, ландшаф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я будущая профе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рия материалов (металл,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ль косметики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874B-AFEC-499A-B346-AB3663CFD74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6AAD-511B-4BA5-8803-0FEF0CFC64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AB70-F559-4454-9966-33150A29D87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B9A0-6993-4DA1-B04E-42ECB65174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ИЙ ПРОЕКТ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EBB3-68E3-4701-B2B1-3AE187036C2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A5DB-63EC-4BC8-9EAA-CC04D90447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EE3B-A5E3-49A8-84E3-4A38113DA79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A555-91A1-42B5-867E-13597B3447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EF65-C9FD-4DF1-8CB1-4E67DE9D0F9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45AF-0EDE-4773-B5B8-3882301EB3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3D07-2DD5-4D00-ACEE-F90684D9344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28DB-A998-4061-8CC4-7E5C56DD51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A9F9-1CF5-4486-B531-E08B0B8D31D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B2AF-B1FC-41A5-B444-1B4828207B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ВЫПОЛНЕНИЯ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E294-0BDB-4BB2-99B7-EDBCE84EF4E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D642-AE7E-4E30-949B-F35CD81D13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а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номические расч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ятся экологически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ормляются результа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защит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"Мой университет" - www.moi-universitet.ru  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49D9-E3F3-4F42-A1D7-CA9B4E450B8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D8F6-697B-4314-BA36-0E9E5ADF74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C59-C27A-4619-AB59-28CF9EBB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FC7-824E-41E8-B283-BEA1CED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462-6D88-4114-87E9-5109E15B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175-8A41-4039-9E65-F3549343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A6A5-9A37-4D45-899F-3AD20CA4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64C5-EFFF-474E-A234-EA052B8A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FE8C-6A10-487E-A46E-1DF5F82D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F32D-FB1A-415B-A97D-2B7A4EE4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039F-8BA4-42EA-91B2-F1DD8D3F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03B1-B67B-4B8E-BEE9-869F798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494B-DBD7-4BAF-8489-540394B6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B16-10E3-4E09-B004-9D967E31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BB3F-798D-4D97-B33F-63367852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28C8-1EA2-4A65-9747-0569CDFA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0881-B7A4-45AB-B3D5-D23BC7B6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7260-0EC0-4B31-9DDA-B0BD3DA5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91EC-FA73-4798-BEC7-BE1CEE2F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9AE-09EC-456A-A842-DFC84D92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6D6-3BC6-47D7-B233-1E03D056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F6B-3E4E-457D-B23E-4A3C236B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C88-5D99-4A75-85BE-8451E7D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52E-7035-4600-8E3A-2AB9FD7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2ED-586B-4304-9AC0-DAD8B74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0B8-5A81-45CA-B539-A07950DD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B266-5BB7-4122-892E-39667EFF491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EC47-41E9-481C-8D09-81BA0CD39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9A83-17AB-4A0A-8305-426D0852C65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74C5-6793-4DD8-964B-ABD02EFDD0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6CDE-B8A7-4A26-BACD-6BD5334E03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4800"/>
            </a:b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в школ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типина В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Акбулакского района Оренбург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000_0585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-252360" y="396360"/>
            <a:ext cx="99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616-F3FC-4E6C-9D06-D093911983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Банк идей и пред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Исследование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2.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колог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SDC12158"/>
          <p:cNvPicPr/>
          <p:nvPr/>
        </p:nvPicPr>
        <p:blipFill>
          <a:blip r:embed="rId4"/>
          <a:stretch/>
        </p:blipFill>
        <p:spPr>
          <a:xfrm>
            <a:off x="5651640" y="1773360"/>
            <a:ext cx="1417320" cy="201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SDC12160"/>
          <p:cNvPicPr/>
          <p:nvPr/>
        </p:nvPicPr>
        <p:blipFill>
          <a:blip r:embed="rId5"/>
          <a:stretch/>
        </p:blipFill>
        <p:spPr>
          <a:xfrm>
            <a:off x="7308720" y="1773360"/>
            <a:ext cx="1376640" cy="19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IMG_1769"/>
          <p:cNvPicPr/>
          <p:nvPr/>
        </p:nvPicPr>
        <p:blipFill>
          <a:blip r:embed="rId6"/>
          <a:stretch/>
        </p:blipFill>
        <p:spPr>
          <a:xfrm>
            <a:off x="5508720" y="4005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ED6D-F64B-483B-A029-ADE45AF0A6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ктуальность выбранной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цель и содержание поставленн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ланируем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межпредметные связ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характеристика источников информации (литерату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орудование и матери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j0299125"/>
          <p:cNvPicPr/>
          <p:nvPr/>
        </p:nvPicPr>
        <p:blipFill>
          <a:blip r:embed="rId1"/>
          <a:stretch/>
        </p:blipFill>
        <p:spPr>
          <a:xfrm>
            <a:off x="7380360" y="429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D484-534D-47BE-90BC-553B01F402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нк идей и предложе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2060640"/>
          <a:ext cx="8229600" cy="38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я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Text Box 18"/>
          <p:cNvSpPr/>
          <p:nvPr/>
        </p:nvSpPr>
        <p:spPr>
          <a:xfrm>
            <a:off x="2804040" y="587700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снование выбора иде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0" descr="j0216588"/>
          <p:cNvPicPr/>
          <p:nvPr/>
        </p:nvPicPr>
        <p:blipFill>
          <a:blip r:embed="rId1"/>
          <a:stretch/>
        </p:blipFill>
        <p:spPr>
          <a:xfrm>
            <a:off x="684360" y="2133720"/>
            <a:ext cx="1609560" cy="180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j0199661"/>
          <p:cNvPicPr/>
          <p:nvPr/>
        </p:nvPicPr>
        <p:blipFill>
          <a:blip r:embed="rId2"/>
          <a:stretch/>
        </p:blipFill>
        <p:spPr>
          <a:xfrm>
            <a:off x="611280" y="4149720"/>
            <a:ext cx="1727280" cy="167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j0090386"/>
          <p:cNvPicPr/>
          <p:nvPr/>
        </p:nvPicPr>
        <p:blipFill>
          <a:blip r:embed="rId3"/>
          <a:stretch/>
        </p:blipFill>
        <p:spPr>
          <a:xfrm>
            <a:off x="4716360" y="4076640"/>
            <a:ext cx="2087640" cy="1787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j0195534"/>
          <p:cNvPicPr/>
          <p:nvPr/>
        </p:nvPicPr>
        <p:blipFill>
          <a:blip r:embed="rId4"/>
          <a:stretch/>
        </p:blipFill>
        <p:spPr>
          <a:xfrm>
            <a:off x="4859280" y="2133720"/>
            <a:ext cx="1476360" cy="181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8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99DB-474D-4E6A-924C-9F5594F74E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е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лагаемая методика и техника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раткий обзор литер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тория предмета и техник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сследование матери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j0217698"/>
          <p:cNvPicPr/>
          <p:nvPr/>
        </p:nvPicPr>
        <p:blipFill>
          <a:blip r:embed="rId1"/>
          <a:stretch/>
        </p:blipFill>
        <p:spPr>
          <a:xfrm>
            <a:off x="6516720" y="403704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F49-D5CA-496D-9430-D6E5F27577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олог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6468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284720" y="2349360"/>
          <a:ext cx="4570200" cy="4104000"/>
        </p:xfrm>
        <a:graphic>
          <a:graphicData uri="http://schemas.openxmlformats.org/drawingml/2006/table">
            <a:tbl>
              <a:tblPr/>
              <a:tblGrid>
                <a:gridCol w="485640"/>
                <a:gridCol w="1214640"/>
                <a:gridCol w="1323720"/>
                <a:gridCol w="154620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, инструменты, Матери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44" descr="j0234266"/>
          <p:cNvPicPr/>
          <p:nvPr/>
        </p:nvPicPr>
        <p:blipFill>
          <a:blip r:embed="rId1"/>
          <a:stretch/>
        </p:blipFill>
        <p:spPr>
          <a:xfrm>
            <a:off x="611280" y="1844640"/>
            <a:ext cx="2319120" cy="2260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5" descr="j0199283"/>
          <p:cNvPicPr/>
          <p:nvPr/>
        </p:nvPicPr>
        <p:blipFill>
          <a:blip r:embed="rId2"/>
          <a:stretch/>
        </p:blipFill>
        <p:spPr>
          <a:xfrm>
            <a:off x="755640" y="450864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46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0C3F-4146-4E21-8EA9-7CF3FF42B0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экономичности  проектируемого издел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ынка сб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7" descr="j0195384"/>
          <p:cNvPicPr/>
          <p:nvPr/>
        </p:nvPicPr>
        <p:blipFill>
          <a:blip r:embed="rId1"/>
          <a:stretch/>
        </p:blipFill>
        <p:spPr>
          <a:xfrm>
            <a:off x="6300720" y="450864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100476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5A34-5869-4562-B517-8B0AA789FB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того, что изготовление и эксплуатация изделия не нанесут вреда окружающей среде и жизнедеятельности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j0285360"/>
          <p:cNvPicPr/>
          <p:nvPr/>
        </p:nvPicPr>
        <p:blipFill>
          <a:blip r:embed="rId1"/>
          <a:stretch/>
        </p:blipFill>
        <p:spPr>
          <a:xfrm>
            <a:off x="1042920" y="472428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5"/>
          <p:cNvSpPr/>
          <p:nvPr/>
        </p:nvSpPr>
        <p:spPr>
          <a:xfrm>
            <a:off x="1117440" y="1886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9182-692B-44D5-8524-96D586F21D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следовательно изложить полученные результа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пределить их соотношение с общей целью и задачами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амооценка проделанной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указать пути продол­жения исследования т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задачи, которые предстоит реш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E149-1B3A-4DDF-8498-959E5E829E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РУКТУР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59" name="Organization Chart 5"/>
          <p:cNvGrpSpPr/>
          <p:nvPr/>
        </p:nvGrpSpPr>
        <p:grpSpPr>
          <a:xfrm>
            <a:off x="457200" y="2133720"/>
            <a:ext cx="8229240" cy="4534920"/>
            <a:chOff x="457200" y="2133720"/>
            <a:chExt cx="8229240" cy="4534920"/>
          </a:xfrm>
        </p:grpSpPr>
        <p:cxnSp>
          <p:nvCxnSpPr>
            <p:cNvPr id="360" name="_s4100"/>
            <p:cNvCxnSpPr>
              <a:stCxn id="361" idx="1"/>
              <a:endCxn id="362" idx="2"/>
            </p:cNvCxnSpPr>
            <p:nvPr/>
          </p:nvCxnSpPr>
          <p:spPr>
            <a:xfrm rot="10800000">
              <a:off x="6701040" y="326664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3" name="_s4101"/>
            <p:cNvCxnSpPr>
              <a:stCxn id="364" idx="1"/>
              <a:endCxn id="362" idx="2"/>
            </p:cNvCxnSpPr>
            <p:nvPr/>
          </p:nvCxnSpPr>
          <p:spPr>
            <a:xfrm rot="10800000">
              <a:off x="6701040" y="326664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5" name="_s4102"/>
            <p:cNvCxnSpPr>
              <a:stCxn id="366" idx="1"/>
              <a:endCxn id="362" idx="2"/>
            </p:cNvCxnSpPr>
            <p:nvPr/>
          </p:nvCxnSpPr>
          <p:spPr>
            <a:xfrm rot="10800000">
              <a:off x="6701040" y="326664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7" name="_s4103"/>
            <p:cNvCxnSpPr>
              <a:stCxn id="368" idx="1"/>
              <a:endCxn id="362" idx="2"/>
            </p:cNvCxnSpPr>
            <p:nvPr/>
          </p:nvCxnSpPr>
          <p:spPr>
            <a:xfrm rot="10800000">
              <a:off x="670104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69" name="_s4104"/>
            <p:cNvCxnSpPr>
              <a:stCxn id="370" idx="1"/>
              <a:endCxn id="371" idx="2"/>
            </p:cNvCxnSpPr>
            <p:nvPr/>
          </p:nvCxnSpPr>
          <p:spPr>
            <a:xfrm rot="10800000">
              <a:off x="4431960" y="3266640"/>
              <a:ext cx="2826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2" name="_s4105"/>
            <p:cNvCxnSpPr>
              <a:stCxn id="373" idx="1"/>
              <a:endCxn id="371" idx="2"/>
            </p:cNvCxnSpPr>
            <p:nvPr/>
          </p:nvCxnSpPr>
          <p:spPr>
            <a:xfrm rot="10800000">
              <a:off x="4431960" y="3266640"/>
              <a:ext cx="2826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4" name="_s4106"/>
            <p:cNvCxnSpPr>
              <a:stCxn id="375" idx="1"/>
              <a:endCxn id="371" idx="2"/>
            </p:cNvCxnSpPr>
            <p:nvPr/>
          </p:nvCxnSpPr>
          <p:spPr>
            <a:xfrm rot="10800000">
              <a:off x="4431960" y="3266640"/>
              <a:ext cx="2826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6" name="_s4107"/>
            <p:cNvCxnSpPr>
              <a:stCxn id="377" idx="3"/>
              <a:endCxn id="378" idx="2"/>
            </p:cNvCxnSpPr>
            <p:nvPr/>
          </p:nvCxnSpPr>
          <p:spPr>
            <a:xfrm flipV="1">
              <a:off x="2160000" y="3266640"/>
              <a:ext cx="284400" cy="31770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79" name="_s4108"/>
            <p:cNvCxnSpPr>
              <a:stCxn id="380" idx="3"/>
              <a:endCxn id="378" idx="2"/>
            </p:cNvCxnSpPr>
            <p:nvPr/>
          </p:nvCxnSpPr>
          <p:spPr>
            <a:xfrm flipV="1">
              <a:off x="2160000" y="3267000"/>
              <a:ext cx="284400" cy="249480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1" name="_s4109"/>
            <p:cNvCxnSpPr>
              <a:stCxn id="382" idx="3"/>
              <a:endCxn id="378" idx="2"/>
            </p:cNvCxnSpPr>
            <p:nvPr/>
          </p:nvCxnSpPr>
          <p:spPr>
            <a:xfrm flipV="1">
              <a:off x="2160000" y="3267000"/>
              <a:ext cx="284400" cy="18165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3" name="_s4110"/>
            <p:cNvCxnSpPr>
              <a:stCxn id="384" idx="3"/>
              <a:endCxn id="378" idx="2"/>
            </p:cNvCxnSpPr>
            <p:nvPr/>
          </p:nvCxnSpPr>
          <p:spPr>
            <a:xfrm flipV="1">
              <a:off x="2160000" y="3267000"/>
              <a:ext cx="284400" cy="11361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5" name="_s4111"/>
            <p:cNvCxnSpPr>
              <a:stCxn id="386" idx="3"/>
              <a:endCxn id="378" idx="2"/>
            </p:cNvCxnSpPr>
            <p:nvPr/>
          </p:nvCxnSpPr>
          <p:spPr>
            <a:xfrm flipV="1">
              <a:off x="2160000" y="3266640"/>
              <a:ext cx="284400" cy="45396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7" name="_s4112"/>
            <p:cNvCxnSpPr>
              <a:stCxn id="362" idx="0"/>
              <a:endCxn id="388" idx="2"/>
            </p:cNvCxnSpPr>
            <p:nvPr/>
          </p:nvCxnSpPr>
          <p:spPr>
            <a:xfrm flipV="1" rot="16200000">
              <a:off x="5523480" y="1634760"/>
              <a:ext cx="227160" cy="212976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89" name="_s4113"/>
            <p:cNvCxnSpPr>
              <a:stCxn id="371" idx="0"/>
              <a:endCxn id="388" idx="2"/>
            </p:cNvCxnSpPr>
            <p:nvPr/>
          </p:nvCxnSpPr>
          <p:spPr>
            <a:xfrm flipH="1" flipV="1" rot="5400000">
              <a:off x="4389120" y="2629800"/>
              <a:ext cx="227160" cy="14040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390" name="_s4114"/>
            <p:cNvCxnSpPr>
              <a:stCxn id="378" idx="0"/>
              <a:endCxn id="388" idx="2"/>
            </p:cNvCxnSpPr>
            <p:nvPr/>
          </p:nvCxnSpPr>
          <p:spPr>
            <a:xfrm flipH="1" flipV="1" rot="5400000">
              <a:off x="3394800" y="1635480"/>
              <a:ext cx="227160" cy="2129040"/>
            </a:xfrm>
            <a:prstGeom prst="bentConnector3">
              <a:avLst>
                <a:gd name="adj1" fmla="val 5031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388" name="_s4115"/>
            <p:cNvSpPr/>
            <p:nvPr/>
          </p:nvSpPr>
          <p:spPr>
            <a:xfrm>
              <a:off x="3720960" y="2133720"/>
              <a:ext cx="1702800" cy="453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99"/>
              </a:solidFill>
              <a:miter/>
            </a:ln>
            <a:effectLst>
              <a:outerShdw dist="63504" dir="19383909" blurRad="0" rotWithShape="0">
                <a:srgbClr val="99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ое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4116"/>
            <p:cNvSpPr/>
            <p:nvPr/>
          </p:nvSpPr>
          <p:spPr>
            <a:xfrm>
              <a:off x="1592280" y="2813760"/>
              <a:ext cx="1702800" cy="453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Теоретическо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обосн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4117"/>
            <p:cNvSpPr/>
            <p:nvPr/>
          </p:nvSpPr>
          <p:spPr>
            <a:xfrm>
              <a:off x="3579480" y="2813760"/>
              <a:ext cx="1702800" cy="45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актическая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4118"/>
            <p:cNvSpPr/>
            <p:nvPr/>
          </p:nvSpPr>
          <p:spPr>
            <a:xfrm>
              <a:off x="5850360" y="2813760"/>
              <a:ext cx="1702800" cy="45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fe1ff"/>
              </a:solidFill>
              <a:miter/>
            </a:ln>
            <a:effectLst>
              <a:outerShdw dist="63504" dir="19383909" blurRad="0" rotWithShape="0">
                <a:srgbClr val="afe1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ило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4119"/>
            <p:cNvSpPr/>
            <p:nvPr/>
          </p:nvSpPr>
          <p:spPr>
            <a:xfrm>
              <a:off x="457200" y="3494160"/>
              <a:ext cx="1702800" cy="45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бо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мы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4120"/>
            <p:cNvSpPr/>
            <p:nvPr/>
          </p:nvSpPr>
          <p:spPr>
            <a:xfrm>
              <a:off x="457200" y="4174560"/>
              <a:ext cx="1702800" cy="453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ктуальн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_s4121"/>
            <p:cNvSpPr/>
            <p:nvPr/>
          </p:nvSpPr>
          <p:spPr>
            <a:xfrm>
              <a:off x="457200" y="4854600"/>
              <a:ext cx="1702800" cy="45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ц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4122"/>
            <p:cNvSpPr/>
            <p:nvPr/>
          </p:nvSpPr>
          <p:spPr>
            <a:xfrm>
              <a:off x="458640" y="5535000"/>
              <a:ext cx="1701000" cy="4532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дачи проек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_s4123"/>
            <p:cNvSpPr/>
            <p:nvPr/>
          </p:nvSpPr>
          <p:spPr>
            <a:xfrm>
              <a:off x="457200" y="6215400"/>
              <a:ext cx="1702800" cy="45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Гипоте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4124"/>
            <p:cNvSpPr/>
            <p:nvPr/>
          </p:nvSpPr>
          <p:spPr>
            <a:xfrm>
              <a:off x="4714920" y="3494160"/>
              <a:ext cx="1702800" cy="4532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вторск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4125"/>
            <p:cNvSpPr/>
            <p:nvPr/>
          </p:nvSpPr>
          <p:spPr>
            <a:xfrm>
              <a:off x="4714920" y="4174560"/>
              <a:ext cx="1702800" cy="45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ализаци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4126"/>
            <p:cNvSpPr/>
            <p:nvPr/>
          </p:nvSpPr>
          <p:spPr>
            <a:xfrm>
              <a:off x="4714920" y="4854600"/>
              <a:ext cx="1702800" cy="4532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4127"/>
            <p:cNvSpPr/>
            <p:nvPr/>
          </p:nvSpPr>
          <p:spPr>
            <a:xfrm>
              <a:off x="6985800" y="3494160"/>
              <a:ext cx="1700640" cy="45324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ке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4128"/>
            <p:cNvSpPr/>
            <p:nvPr/>
          </p:nvSpPr>
          <p:spPr>
            <a:xfrm>
              <a:off x="6985800" y="4174560"/>
              <a:ext cx="1700640" cy="45324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иа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4129"/>
            <p:cNvSpPr/>
            <p:nvPr/>
          </p:nvSpPr>
          <p:spPr>
            <a:xfrm>
              <a:off x="6985800" y="4854600"/>
              <a:ext cx="1698840" cy="45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блиц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_s4130"/>
            <p:cNvSpPr/>
            <p:nvPr/>
          </p:nvSpPr>
          <p:spPr>
            <a:xfrm>
              <a:off x="6985800" y="5535000"/>
              <a:ext cx="1700640" cy="45324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тограф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Picture 50" descr="j0283209"/>
          <p:cNvPicPr/>
          <p:nvPr/>
        </p:nvPicPr>
        <p:blipFill>
          <a:blip r:embed="rId17"/>
          <a:stretch/>
        </p:blipFill>
        <p:spPr>
          <a:xfrm>
            <a:off x="2627280" y="5013360"/>
            <a:ext cx="1728720" cy="1690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1"/>
          <p:cNvSpPr/>
          <p:nvPr/>
        </p:nvSpPr>
        <p:spPr>
          <a:xfrm>
            <a:off x="107748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6EDE-9972-46E9-936C-EE0C684236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ЦЕНКА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 и изделие оценивается во время защиты проекта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е совершен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ие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опас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общественным потреб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эксплуа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м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" descr="j0300840"/>
          <p:cNvPicPr/>
          <p:nvPr/>
        </p:nvPicPr>
        <p:blipFill>
          <a:blip r:embed="rId1"/>
          <a:stretch/>
        </p:blipFill>
        <p:spPr>
          <a:xfrm>
            <a:off x="673272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149120" y="1378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06CC-70B0-4063-B2D8-7772BE944B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77612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–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самостояте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творческая работ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выполненная под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уководством учител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j0299125"/>
          <p:cNvPicPr/>
          <p:nvPr/>
        </p:nvPicPr>
        <p:blipFill>
          <a:blip r:embed="rId1"/>
          <a:stretch/>
        </p:blipFill>
        <p:spPr>
          <a:xfrm>
            <a:off x="179280" y="2708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306080" y="52812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A0B3-F34F-4DF7-AA41-9289044957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тика проек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тика проектов носит декоративно-прикладной, исследовательский, социальный   характер. При таком разнообразии видов работ многосторонняя проба сил позволяет выявить и развить способности и склонности учащихся, сделать процесс обучения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SDC12173"/>
          <p:cNvPicPr/>
          <p:nvPr/>
        </p:nvPicPr>
        <p:blipFill>
          <a:blip r:embed="rId1"/>
          <a:stretch/>
        </p:blipFill>
        <p:spPr>
          <a:xfrm>
            <a:off x="7236000" y="4221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DC12174"/>
          <p:cNvPicPr/>
          <p:nvPr/>
        </p:nvPicPr>
        <p:blipFill>
          <a:blip r:embed="rId2"/>
          <a:stretch/>
        </p:blipFill>
        <p:spPr>
          <a:xfrm>
            <a:off x="550872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SDC12178"/>
          <p:cNvPicPr/>
          <p:nvPr/>
        </p:nvPicPr>
        <p:blipFill>
          <a:blip r:embed="rId3"/>
          <a:stretch/>
        </p:blipFill>
        <p:spPr>
          <a:xfrm>
            <a:off x="3780000" y="422100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SDC12179"/>
          <p:cNvPicPr/>
          <p:nvPr/>
        </p:nvPicPr>
        <p:blipFill>
          <a:blip r:embed="rId4"/>
          <a:stretch/>
        </p:blipFill>
        <p:spPr>
          <a:xfrm>
            <a:off x="2050920" y="4221000"/>
            <a:ext cx="1675080" cy="2232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DC12186"/>
          <p:cNvPicPr/>
          <p:nvPr/>
        </p:nvPicPr>
        <p:blipFill>
          <a:blip r:embed="rId5"/>
          <a:stretch/>
        </p:blipFill>
        <p:spPr>
          <a:xfrm>
            <a:off x="250920" y="4221000"/>
            <a:ext cx="1665360" cy="2206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F8D4-2486-4FB9-BBB8-05560893C8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ы проектов 2009-2010 уч.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ы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дьте здоро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узей пуговицы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ивка (крест, гладь, изони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язание (крючком, спи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етение (макраме, ло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екуп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изайн (помещения, ландшаф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следовательский прое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я будущая профес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материалов (металл, тка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ль косметики в жизни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вые направления дизайна (пирсинг, тюнинг, татуиров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SDC12184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3832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07CF-8E51-447A-9EC5-A8FDE6234F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полнение творческого проекта – одна из сторон воспитания. Оно нацелено на создание детьми нравственной ценности трудового начала жизни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Лернер П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SDC11711"/>
          <p:cNvPicPr/>
          <p:nvPr/>
        </p:nvPicPr>
        <p:blipFill>
          <a:blip r:embed="rId1"/>
          <a:stretch/>
        </p:blipFill>
        <p:spPr>
          <a:xfrm>
            <a:off x="971640" y="3284640"/>
            <a:ext cx="7345440" cy="3382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6"/>
          <p:cNvSpPr/>
          <p:nvPr/>
        </p:nvSpPr>
        <p:spPr>
          <a:xfrm>
            <a:off x="1149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BA96-DC75-4418-B965-33087AD94E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97724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КИЙ ПРОЕКТ -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то учебно-трудовое задание, активизирующее деятельность учащихся, в результате которого ими создается продукт, обладающий новизно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j0299125"/>
          <p:cNvPicPr/>
          <p:nvPr/>
        </p:nvPicPr>
        <p:blipFill>
          <a:blip r:embed="rId1"/>
          <a:stretch/>
        </p:blipFill>
        <p:spPr>
          <a:xfrm>
            <a:off x="324000" y="472428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1150560" y="280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D0D2-0238-4149-85B7-A329878EE2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457200" y="1557360"/>
            <a:ext cx="8228160" cy="4966920"/>
            <a:chOff x="457200" y="1557360"/>
            <a:chExt cx="8228160" cy="4966920"/>
          </a:xfrm>
        </p:grpSpPr>
        <p:cxnSp>
          <p:nvCxnSpPr>
            <p:cNvPr id="238" name="_s1028"/>
            <p:cNvCxnSpPr>
              <a:stCxn id="239" idx="1"/>
              <a:endCxn id="240" idx="2"/>
            </p:cNvCxnSpPr>
            <p:nvPr/>
          </p:nvCxnSpPr>
          <p:spPr>
            <a:xfrm rot="10800000">
              <a:off x="2925000" y="2140920"/>
              <a:ext cx="823320" cy="409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29"/>
            <p:cNvCxnSpPr>
              <a:stCxn id="242" idx="1"/>
              <a:endCxn id="240" idx="2"/>
            </p:cNvCxnSpPr>
            <p:nvPr/>
          </p:nvCxnSpPr>
          <p:spPr>
            <a:xfrm rot="10800000">
              <a:off x="2925000" y="2140920"/>
              <a:ext cx="823320" cy="32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1030"/>
            <p:cNvCxnSpPr>
              <a:stCxn id="244" idx="1"/>
              <a:endCxn id="240" idx="2"/>
            </p:cNvCxnSpPr>
            <p:nvPr/>
          </p:nvCxnSpPr>
          <p:spPr>
            <a:xfrm rot="10800000">
              <a:off x="2925000" y="2140920"/>
              <a:ext cx="823320" cy="233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5" name="_s1031"/>
            <p:cNvCxnSpPr>
              <a:stCxn id="246" idx="1"/>
              <a:endCxn id="240" idx="2"/>
            </p:cNvCxnSpPr>
            <p:nvPr/>
          </p:nvCxnSpPr>
          <p:spPr>
            <a:xfrm rot="10800000">
              <a:off x="2925000" y="2140920"/>
              <a:ext cx="823320" cy="14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7" name="_s1032"/>
            <p:cNvCxnSpPr>
              <a:stCxn id="248" idx="1"/>
              <a:endCxn id="240" idx="2"/>
            </p:cNvCxnSpPr>
            <p:nvPr/>
          </p:nvCxnSpPr>
          <p:spPr>
            <a:xfrm rot="10800000">
              <a:off x="2925000" y="2140920"/>
              <a:ext cx="823320" cy="58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3"/>
            <p:cNvSpPr/>
            <p:nvPr/>
          </p:nvSpPr>
          <p:spPr>
            <a:xfrm>
              <a:off x="457200" y="155736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рганизационно-подготовите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3748320" y="24336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боснование возникшей проблем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 потребности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1035"/>
            <p:cNvSpPr/>
            <p:nvPr/>
          </p:nvSpPr>
          <p:spPr>
            <a:xfrm>
              <a:off x="3748320" y="33102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1036"/>
            <p:cNvSpPr/>
            <p:nvPr/>
          </p:nvSpPr>
          <p:spPr>
            <a:xfrm>
              <a:off x="3748320" y="41868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1037"/>
            <p:cNvSpPr/>
            <p:nvPr/>
          </p:nvSpPr>
          <p:spPr>
            <a:xfrm>
              <a:off x="3748320" y="50634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38"/>
            <p:cNvSpPr/>
            <p:nvPr/>
          </p:nvSpPr>
          <p:spPr>
            <a:xfrm>
              <a:off x="3748320" y="5940000"/>
              <a:ext cx="4937040" cy="584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бор оборудования,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струментов и приспособл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Rectangle 30"/>
          <p:cNvSpPr/>
          <p:nvPr/>
        </p:nvSpPr>
        <p:spPr>
          <a:xfrm>
            <a:off x="4359960" y="4149720"/>
            <a:ext cx="406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исание внешнего вида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4790880" y="5157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5509800" y="32846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ор мод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4" descr="000_0582"/>
          <p:cNvPicPr/>
          <p:nvPr/>
        </p:nvPicPr>
        <p:blipFill>
          <a:blip r:embed="rId1"/>
          <a:stretch/>
        </p:blipFill>
        <p:spPr>
          <a:xfrm>
            <a:off x="250920" y="321300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5"/>
          <p:cNvSpPr/>
          <p:nvPr/>
        </p:nvSpPr>
        <p:spPr>
          <a:xfrm>
            <a:off x="726840" y="9144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8620-7246-418B-969C-4DEEF17913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ься проблема осознания нужд и потребностей во всех сферах деятельности человека (зачем и почему  надо выполнить проект, каково его значение в  жизни обще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ится цель – получение полезного проекта, который может носить как социальный, так и личностный характ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уется технология изготовления, ( подбор инструментов и обору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яется последовательность технологических операций (выбор оптимальной технологии изготовления издел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ми деятельности выступает личный опыт, а так же все рабочие инструменты и оборуд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ами деятельности является приобретение новых знаний, умений, производится самоконтроль и самооц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2684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39C2-C94E-4198-A615-1108378EAA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Organization Chart 16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63" name="_s2052"/>
            <p:cNvCxnSpPr>
              <a:stCxn id="264" idx="1"/>
              <a:endCxn id="26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2053"/>
            <p:cNvCxnSpPr>
              <a:stCxn id="267" idx="1"/>
              <a:endCxn id="26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5" name="_s2054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Технологический этап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2055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Выполнение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ологических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перац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2056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Соблюдение условий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техники</a:t>
              </a: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безопасности и культуры тру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26" descr="настя1"/>
          <p:cNvPicPr/>
          <p:nvPr/>
        </p:nvPicPr>
        <p:blipFill>
          <a:blip r:embed="rId1"/>
          <a:stretch/>
        </p:blipFill>
        <p:spPr>
          <a:xfrm>
            <a:off x="6227640" y="1557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настя"/>
          <p:cNvPicPr/>
          <p:nvPr/>
        </p:nvPicPr>
        <p:blipFill>
          <a:blip r:embed="rId2"/>
          <a:stretch/>
        </p:blipFill>
        <p:spPr>
          <a:xfrm>
            <a:off x="250920" y="5075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лена"/>
          <p:cNvPicPr/>
          <p:nvPr/>
        </p:nvPicPr>
        <p:blipFill>
          <a:blip r:embed="rId3"/>
          <a:stretch/>
        </p:blipFill>
        <p:spPr>
          <a:xfrm>
            <a:off x="179280" y="3213000"/>
            <a:ext cx="240048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9"/>
          <p:cNvSpPr/>
          <p:nvPr/>
        </p:nvSpPr>
        <p:spPr>
          <a:xfrm>
            <a:off x="1083960" y="9648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3616-62AD-42E2-B54D-58DD685314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ются технологические операции, корректируется деятельность, производится самоконтроль и самооценка раб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– качественнее и правильнее выполнить трудовые опер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ультат – приобретение знаний, умений и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SDC11284"/>
          <p:cNvPicPr/>
          <p:nvPr/>
        </p:nvPicPr>
        <p:blipFill>
          <a:blip r:embed="rId1"/>
          <a:stretch/>
        </p:blipFill>
        <p:spPr>
          <a:xfrm>
            <a:off x="684360" y="3122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DC11286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726840" y="13608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248E-7B7E-48D2-901C-7AD4E5D4EB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АП ВЫПОЛНЕНИЯ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2" name="Organization Chart 5"/>
          <p:cNvGrpSpPr/>
          <p:nvPr/>
        </p:nvGrpSpPr>
        <p:grpSpPr>
          <a:xfrm>
            <a:off x="457200" y="1989000"/>
            <a:ext cx="8228160" cy="4534920"/>
            <a:chOff x="457200" y="1989000"/>
            <a:chExt cx="8228160" cy="4534920"/>
          </a:xfrm>
        </p:grpSpPr>
        <p:cxnSp>
          <p:nvCxnSpPr>
            <p:cNvPr id="283" name="_s3076"/>
            <p:cNvCxnSpPr>
              <a:stCxn id="284" idx="1"/>
              <a:endCxn id="285" idx="2"/>
            </p:cNvCxnSpPr>
            <p:nvPr/>
          </p:nvCxnSpPr>
          <p:spPr>
            <a:xfrm rot="10800000">
              <a:off x="2925000" y="3121920"/>
              <a:ext cx="823320" cy="283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3077"/>
            <p:cNvCxnSpPr>
              <a:stCxn id="287" idx="1"/>
              <a:endCxn id="285" idx="2"/>
            </p:cNvCxnSpPr>
            <p:nvPr/>
          </p:nvCxnSpPr>
          <p:spPr>
            <a:xfrm rot="10800000">
              <a:off x="2925000" y="3121920"/>
              <a:ext cx="823320" cy="113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5" name="_s3078"/>
            <p:cNvSpPr/>
            <p:nvPr/>
          </p:nvSpPr>
          <p:spPr>
            <a:xfrm>
              <a:off x="457200" y="198900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Заключительный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3079"/>
            <p:cNvSpPr/>
            <p:nvPr/>
          </p:nvSpPr>
          <p:spPr>
            <a:xfrm>
              <a:off x="3748320" y="368964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Оценка проделанной работы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3080"/>
            <p:cNvSpPr/>
            <p:nvPr/>
          </p:nvSpPr>
          <p:spPr>
            <a:xfrm>
              <a:off x="3748320" y="5390280"/>
              <a:ext cx="4937040" cy="1133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Защита проекта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6" descr="SDC11186"/>
          <p:cNvPicPr/>
          <p:nvPr/>
        </p:nvPicPr>
        <p:blipFill>
          <a:blip r:embed="rId1"/>
          <a:stretch/>
        </p:blipFill>
        <p:spPr>
          <a:xfrm>
            <a:off x="6084720" y="162864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SDC11001"/>
          <p:cNvPicPr/>
          <p:nvPr/>
        </p:nvPicPr>
        <p:blipFill>
          <a:blip r:embed="rId2"/>
          <a:stretch/>
        </p:blipFill>
        <p:spPr>
          <a:xfrm>
            <a:off x="324000" y="436572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8"/>
          <p:cNvSpPr/>
          <p:nvPr/>
        </p:nvSpPr>
        <p:spPr>
          <a:xfrm>
            <a:off x="1044360" y="182160"/>
            <a:ext cx="68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1EE0-3EF0-4DC6-9840-F07A2DA9E3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ап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окончательный контроль и защита про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номические расче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ятся экологические исслед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тся проделанная работа, устанавливается, результат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яются результа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водится защита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1 б 010"/>
          <p:cNvPicPr/>
          <p:nvPr/>
        </p:nvPicPr>
        <p:blipFill>
          <a:blip r:embed="rId1"/>
          <a:stretch/>
        </p:blipFill>
        <p:spPr>
          <a:xfrm>
            <a:off x="539640" y="4076640"/>
            <a:ext cx="2109960" cy="250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день моря 3"/>
          <p:cNvPicPr/>
          <p:nvPr/>
        </p:nvPicPr>
        <p:blipFill>
          <a:blip r:embed="rId2"/>
          <a:stretch/>
        </p:blipFill>
        <p:spPr>
          <a:xfrm>
            <a:off x="6588000" y="3357720"/>
            <a:ext cx="2298960" cy="2462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DC11181"/>
          <p:cNvPicPr/>
          <p:nvPr/>
        </p:nvPicPr>
        <p:blipFill>
          <a:blip r:embed="rId3"/>
          <a:stretch/>
        </p:blipFill>
        <p:spPr>
          <a:xfrm>
            <a:off x="298764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SDC11704"/>
          <p:cNvPicPr/>
          <p:nvPr/>
        </p:nvPicPr>
        <p:blipFill>
          <a:blip r:embed="rId4"/>
          <a:stretch/>
        </p:blipFill>
        <p:spPr>
          <a:xfrm>
            <a:off x="7740720" y="907920"/>
            <a:ext cx="102060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000_0231"/>
          <p:cNvPicPr/>
          <p:nvPr/>
        </p:nvPicPr>
        <p:blipFill>
          <a:blip r:embed="rId5"/>
          <a:stretch/>
        </p:blipFill>
        <p:spPr>
          <a:xfrm>
            <a:off x="250920" y="836640"/>
            <a:ext cx="1942920" cy="10605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933120" y="91800"/>
            <a:ext cx="686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Акбулакская средняя общеобразовательная школа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булакского района Оренбург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6:37:30Z</dcterms:created>
  <dc:creator>ПК</dc:creator>
  <dc:description>uchportal.ru</dc:description>
  <dc:language>en-US</dc:language>
  <cp:lastModifiedBy>LEGION</cp:lastModifiedBy>
  <dcterms:modified xsi:type="dcterms:W3CDTF">2015-03-31T08:31:44Z</dcterms:modified>
  <cp:revision>23</cp:revision>
  <dc:subject/>
  <dc:title>Проект по 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9000000000001024140</vt:lpwstr>
  </property>
</Properties>
</file>